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F9A-C84D-460E-8578-25458AF9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418-5D03-4E7F-92E9-3D9639FC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077-EA05-4C9C-8D32-4C667B03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1EB-088F-45D2-A10F-587BB695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805-1DE8-4EB9-9397-BF142744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42D-8502-48C5-A86D-90A22DF0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804-8FD4-4DC0-9604-748FD2AE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3DC-7BB7-4F59-98DD-D3BEE940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8B4-CC0C-42F3-A5A7-8CC9F051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A4E-E1DE-400C-9979-05583723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A18-BF85-47AF-AB38-FC392ACA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D4F-D5A3-4668-AE51-3469A21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B846-080F-4800-B0BB-250B1B3013D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file:///&#20633;&#23529;&#36039;&#26009;&#30456;&#38364;&#21443;&#32771;/&#38754;&#35430;/&#20320;&#26371;&#33258;&#25105;&#20171;&#32057;&#21966;.doc" TargetMode="External"/><Relationship Id="rId4" Type="http://schemas.openxmlformats.org/officeDocument/2006/relationships/hyperlink" Target="file:///&#20633;&#23529;&#36039;&#26009;&#30456;&#38364;&#21443;&#32771;/&#38754;&#35430;/&#20320;&#26371;&#33258;&#25105;&#20171;&#32057;&#21966;.doc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file:///&#20633;&#23529;&#36039;&#26009;&#30456;&#38364;&#21443;&#32771;/&#38754;&#35430;/&#21313;&#22823;&#23416;&#32676;&#38988;&#22411;&#39006;&#32232;.doc" TargetMode="External"/><Relationship Id="rId4" Type="http://schemas.openxmlformats.org/officeDocument/2006/relationships/slide" Target="slide5.xm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0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6600"/>
                </a:solidFill>
                <a:latin typeface="Arial"/>
                <a:ea typeface="華康皮皮體W5"/>
              </a:rPr>
              <a:t>推甄面試葵花寶典</a:t>
            </a:r>
            <a:br>
              <a:rPr sz="6000"/>
            </a:br>
            <a:r>
              <a:rPr b="0" lang="zh-TW" sz="6000" spc="-1" strike="noStrike">
                <a:solidFill>
                  <a:srgbClr val="006600"/>
                </a:solidFill>
                <a:latin typeface="Arial"/>
                <a:ea typeface="華康皮皮體W5"/>
              </a:rPr>
              <a:t> 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華康皮皮體W5"/>
              </a:rPr>
              <a:t>Vol.2 </a:t>
            </a:r>
            <a:r>
              <a:rPr b="0" lang="zh-TW" sz="4400" spc="-1" strike="noStrike">
                <a:solidFill>
                  <a:srgbClr val="006600"/>
                </a:solidFill>
                <a:latin typeface="Arial"/>
                <a:ea typeface="華康皮皮體W5"/>
              </a:rPr>
              <a:t>面試應答技巧及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一般問題（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4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） 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-</a:t>
            </a:r>
            <a:r>
              <a:rPr b="0" lang="zh-TW" sz="4400" spc="-1" strike="noStrike">
                <a:solidFill>
                  <a:srgbClr val="0000ff"/>
                </a:solidFill>
                <a:latin typeface="華康墨字體"/>
                <a:ea typeface="華康墨字體"/>
              </a:rPr>
              <a:t>興趣能力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836640"/>
            <a:ext cx="813600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題目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你喜歡什麼樣的課外活動？參加過什麼社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讀過最深刻的一本書？最崇拜的偶像是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喜歡什麼科目？平時對什麼事物有興趣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發問目的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教授們想瞭解你的興趣嗜好、個性以及表達能力，再由你的回答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找出新的問題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答題秘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誠實作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事先對著鏡子演練一遍，想一下教授會由你的回答中找出什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新問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◎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實例：教授問大牛他最喜歡的書是哪一本，大牛回答是『三國演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義』。教授就由『三國演義』一書中的情節考問大牛：如果你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三國演義中的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XXX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，當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XXX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發生時，你會不會做相同的決定？為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麼？，以瞭解大牛對該書的瞭解程度，以及大牛的批判力、創造力。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1052640"/>
            <a:ext cx="2158920" cy="1150920"/>
          </a:xfrm>
          <a:prstGeom prst="wedgeRoundRectCallout">
            <a:avLst>
              <a:gd name="adj1" fmla="val -79851"/>
              <a:gd name="adj2" fmla="val 28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少女文字W7"/>
              </a:rPr>
              <a:t>為什麼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一般問題（</a:t>
            </a:r>
            <a:r>
              <a:rPr b="0" lang="zh-TW" sz="40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5</a:t>
            </a:r>
            <a:r>
              <a:rPr b="0" lang="zh-TW" sz="40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） </a:t>
            </a:r>
            <a:r>
              <a:rPr b="0" lang="zh-TW" sz="40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-</a:t>
            </a:r>
            <a:r>
              <a:rPr b="0" lang="zh-TW" sz="4000" spc="-1" strike="noStrike">
                <a:solidFill>
                  <a:srgbClr val="0000ff"/>
                </a:solidFill>
                <a:latin typeface="華康墨字體"/>
                <a:ea typeface="華康墨字體"/>
              </a:rPr>
              <a:t>學校（陷阱題）</a:t>
            </a:r>
            <a:r>
              <a:rPr b="0" lang="zh-TW" sz="40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052640"/>
            <a:ext cx="813600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題目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你為什麼要選擇本校本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發問目的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瞭解你是不是「有心人」，自幼以來就對該校、該系懷抱憧憬，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嚮往，該校系是不是你心目中的第一志願、最大夢想。或者你只是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為個人條件剛好符合該系要求，就隨隨便便去甄試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答題秘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說明自己為何對該領域有興趣、有能力就讀（並適度舉例說明自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的天賦異秉，比方說愛迪生小時候嘗試親自孵雞蛋、偉人看魚奮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向上游之類的事蹟，如果你也有過類似經驗的話，不妨試舉數例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明之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強調自己對該校該系深刻的瞭解與仰慕。事先一定要蒐集該校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相關資料並熟記。包括該校特色，該系與其他校同系的不同之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3.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誠實說明，不必刻意造假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1125360"/>
            <a:ext cx="1296720" cy="935280"/>
          </a:xfrm>
          <a:custGeom>
            <a:avLst/>
            <a:gdLst>
              <a:gd name="textAreaLeft" fmla="*/ 304560 w 1296720"/>
              <a:gd name="textAreaRight" fmla="*/ 991080 w 1296720"/>
              <a:gd name="textAreaTop" fmla="*/ 109800 h 935280"/>
              <a:gd name="textAreaBottom" fmla="*/ 586800 h 935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POP1體W9(P)"/>
              </a:rPr>
              <a:t>常考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解題小撇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981000"/>
            <a:ext cx="7848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★</a:t>
            </a:r>
            <a:r>
              <a:rPr b="0" lang="zh-TW" sz="28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實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小陳甄試某校教育系時，被問道：既然你對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工作那麼有興趣，為什麼不去參加甲校、乙校、丙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的教育系甄試，反而選擇本校系？小陳回答：因為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校的教育系偏重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領域，而</a:t>
            </a:r>
            <a:r>
              <a:rPr b="0" lang="zh-TW" sz="2400" spc="-1" strike="noStrike">
                <a:solidFill>
                  <a:srgbClr val="ff0066"/>
                </a:solidFill>
                <a:latin typeface="華康中圓體"/>
                <a:ea typeface="華康中圓體"/>
              </a:rPr>
              <a:t>我偏好</a:t>
            </a:r>
            <a:r>
              <a:rPr b="0" lang="zh-TW" sz="2400" spc="-1" strike="noStrike">
                <a:solidFill>
                  <a:srgbClr val="ff0066"/>
                </a:solidFill>
                <a:latin typeface="華康中圓體"/>
                <a:ea typeface="華康中圓體"/>
              </a:rPr>
              <a:t>XX</a:t>
            </a:r>
            <a:r>
              <a:rPr b="0" lang="zh-TW" sz="2400" spc="-1" strike="noStrike">
                <a:solidFill>
                  <a:srgbClr val="ff0066"/>
                </a:solidFill>
                <a:latin typeface="華康中圓體"/>
                <a:ea typeface="華康中圓體"/>
              </a:rPr>
              <a:t>領域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，尤其是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系的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老師對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有許多的研究，相信我可以從優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老師身上學到不少東西。其次是</a:t>
            </a:r>
            <a:r>
              <a:rPr b="0" lang="zh-TW" sz="2400" spc="-1" strike="noStrike">
                <a:solidFill>
                  <a:srgbClr val="ff0066"/>
                </a:solidFill>
                <a:latin typeface="華康中圓體"/>
                <a:ea typeface="華康中圓體"/>
              </a:rPr>
              <a:t>風氣問題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，本校系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學術風氣及傳統是『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......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』，而甲校、乙校卻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....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』，貴校系較為符合我對未來的期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這樣回答，深深表露出你對專業領域學術生態與校風的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解，顯的你是有備而來，事先多下了苦功，較易贏得評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的青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9640" y="5013360"/>
            <a:ext cx="2858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個人問題（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6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）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-</a:t>
            </a:r>
            <a:r>
              <a:rPr b="0" lang="zh-TW" sz="4400" spc="-1" strike="noStrike">
                <a:solidFill>
                  <a:srgbClr val="0000ff"/>
                </a:solidFill>
                <a:latin typeface="華康墨字體"/>
                <a:ea typeface="華康墨字體"/>
              </a:rPr>
              <a:t>未來規劃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484280"/>
            <a:ext cx="6985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題目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中圓體"/>
              </a:rPr>
              <a:t>你未來想從事什麼行業？有何規畫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中圓體"/>
              </a:rPr>
              <a:t>你的人生目標為何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發問目的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中圓體"/>
              </a:rPr>
              <a:t>瞭解考生對未來的生涯規畫，並評估考生是否具備潛力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答題秘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中圓體"/>
              </a:rPr>
              <a:t>  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中圓體"/>
              </a:rPr>
              <a:t>事先準備，誠實作答！要說出準備從事該行業的充分理由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80536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 u="sng">
                <a:solidFill>
                  <a:srgbClr val="009999"/>
                </a:solidFill>
                <a:uFillTx/>
                <a:latin typeface="華康行楷體W5"/>
                <a:ea typeface="華康行楷體W5"/>
                <a:hlinkClick r:id="rId3"/>
              </a:rPr>
              <a:t>你會自我介紹嗎？？</a:t>
            </a:r>
            <a:r>
              <a:rPr b="0" lang="zh-TW" sz="6600" spc="-1" strike="noStrike" u="sng">
                <a:solidFill>
                  <a:srgbClr val="009999"/>
                </a:solidFill>
                <a:uFillTx/>
                <a:latin typeface="華康中圓體"/>
                <a:ea typeface="華康中圓體"/>
                <a:hlinkClick r:id="rId4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125360"/>
            <a:ext cx="8496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557360"/>
            <a:ext cx="6483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66"/>
                </a:solidFill>
                <a:latin typeface="Arial"/>
                <a:ea typeface="標楷體"/>
              </a:rPr>
              <a:t>一分鐘自我介紹講述內容</a:t>
            </a:r>
            <a:r>
              <a:rPr b="0" lang="zh-TW" sz="3600" spc="-1" strike="noStrike">
                <a:solidFill>
                  <a:srgbClr val="ff0066"/>
                </a:solidFill>
                <a:latin typeface="Arial"/>
                <a:ea typeface="標楷體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簡述家庭背景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家庭對自己的影響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高中生活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得獎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社團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幹部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比賽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經驗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個性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興趣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休閒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申請此系動機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源於自己的興趣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能力…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強調自己申請的企圖心做為結語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24720" y="1557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33336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你會自我介紹嗎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專業問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197000"/>
            <a:ext cx="7921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發問目的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中圓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圓體"/>
              </a:rPr>
              <a:t>瞭解考生專業能力程度。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答題秘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蒐集考古題，並進行考前大猜題，反覆練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到圖書館閱讀專業雜誌、期刊，給自己惡補一番。如果能找到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系的學術性系刊尤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3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問就讀該系的學長姐，可能的口試委員是誰，出題風格為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4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查閱該系的師資陣容名單，瞭解他們的學術背景、最近著作。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授極為可能由自己的學術背景中出類似的問題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TW" sz="2600" spc="-1" strike="noStrike" u="sng">
                <a:solidFill>
                  <a:srgbClr val="009999"/>
                </a:solidFill>
                <a:uFillTx/>
                <a:latin typeface="華康中圓體"/>
                <a:ea typeface="華康中圓體"/>
                <a:hlinkClick r:id="rId3"/>
              </a:rPr>
              <a:t>十大學群試題類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580536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時事問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907920"/>
            <a:ext cx="82072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發問目的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圓體"/>
              </a:rPr>
              <a:t>瞭解考生是否具有社會觀、國際觀，具備優秀的公民條件；還是個只會埋首書堆中的呆頭鵝，除了課本之外一無所知的科學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答題秘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圓體"/>
              </a:rPr>
              <a:t>其實關心時事是每個高中生都應該做到的。自從知道自己要參加面試的那一刻起，你就要開始天天看電視、報紙或是雜誌，瞭解各類社會問題、經濟問題、國際情勢，尤其是國家社會政策問題，並瞭解問題起源，分析其政策優劣，惡補一下自己的時事概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題目類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如：禽流感、狂牛症、卡債族、自殺人口、青少年的抗壓力，何謂金磚四國？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麼是ＷＨＯ？什麼是ＢＯＴ？ＥＴＣ？熱門影集「犯罪現場」ＣＳＩ的原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是什麼？「海角七號」是什麼樣的影片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時事問題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(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續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341360"/>
            <a:ext cx="8496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金磚四國：印度、俄羅斯、巴西、中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WHO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：世界衛生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BOT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：興建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(Build)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、營運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(Operate)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、移轉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(Transfer)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 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式，推動民間參與公共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ETC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The electronic tol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  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高速公路電子收費系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CSI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Crime Scene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時事問題之考古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341360"/>
            <a:ext cx="8496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對於中共的『導彈演習』你的看法如何？（中山醫學院醫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你對全民健保的看法？它的優缺點？（花師社會教育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四組總統候選人中，你最喜歡哪一組？為什麼？（高雄師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英文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你對社會上的議題如群眾運動、街頭暴力、性別歧視、婚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暴力、或其他議題有何看法？（台大社會系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你對環保的看法？（中央資管，台中師院數理，淡大會計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你對『國營事業民營化』的看法？（成功企管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你對『教育改革』的看法？（陽明醫科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你對中共試射飛彈的看法？（中興經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80536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少女文字W7"/>
                <a:ea typeface="華康少女文字W7"/>
              </a:rPr>
              <a:t>面試</a:t>
            </a:r>
            <a:r>
              <a:rPr b="0" lang="zh-TW" sz="4400" spc="-1" strike="noStrike">
                <a:solidFill>
                  <a:srgbClr val="0000ff"/>
                </a:solidFill>
                <a:latin typeface="華康少女文字W7"/>
                <a:ea typeface="華康少女文字W7"/>
              </a:rPr>
              <a:t>NG</a:t>
            </a:r>
            <a:r>
              <a:rPr b="0" lang="zh-TW" sz="4400" spc="-1" strike="noStrike">
                <a:solidFill>
                  <a:srgbClr val="0000ff"/>
                </a:solidFill>
                <a:latin typeface="華康少女文字W7"/>
                <a:ea typeface="華康少女文字W7"/>
              </a:rPr>
              <a:t>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56360" y="227664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思考問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981000"/>
            <a:ext cx="8351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發問目的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瞭解考生的思考模式是否靈活、具創造力、邏輯思考及批判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答題秘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平時就要多閱讀、多思考、多批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不必人云亦云接受一些當然如此的想法，而要勇於突破，勇於另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思考，但不是天馬行空的亂想一通，而是要合邏輯、經的起批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類題舉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‧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是否你看過的狗越多，你就越能肯定下一個你所見到的動物是不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狗？（成大工程科學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   </a:t>
            </a:r>
            <a:r>
              <a:rPr b="0" lang="zh-TW" sz="2000" spc="-1" strike="noStrike">
                <a:solidFill>
                  <a:srgbClr val="33cc33"/>
                </a:solidFill>
                <a:latin typeface="Arial"/>
                <a:ea typeface="華康中圓體"/>
              </a:rPr>
              <a:t>正確答案：不一定。因為在機率上而言，這是單獨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  <a:ea typeface="華康中圓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‧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某商店促銷糖果，每兩張糖果紙可以換一顆糖果。小華買了十顆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果，請問他一共可以吃幾顆糖果？（淡大資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    </a:t>
            </a:r>
            <a:r>
              <a:rPr b="0" lang="zh-TW" sz="2000" spc="-1" strike="noStrike">
                <a:solidFill>
                  <a:srgbClr val="33cc33"/>
                </a:solidFill>
                <a:latin typeface="Arial"/>
                <a:ea typeface="華康中圓體"/>
              </a:rPr>
              <a:t>正確答案：二十 顆。因為吃完最後一顆後，你可以先向老闆賒欠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cc33"/>
                </a:solidFill>
                <a:latin typeface="Arial"/>
                <a:ea typeface="華康中圓體"/>
              </a:rPr>
              <a:t>        </a:t>
            </a:r>
            <a:r>
              <a:rPr b="0" lang="zh-TW" sz="2000" spc="-1" strike="noStrike">
                <a:solidFill>
                  <a:srgbClr val="33cc33"/>
                </a:solidFill>
                <a:latin typeface="Arial"/>
                <a:ea typeface="華康中圓體"/>
              </a:rPr>
              <a:t>顆，此賒欠的糖果紙加上你的最後一顆糖果紙，剛好兩張糖果紙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cc33"/>
                </a:solidFill>
                <a:latin typeface="Arial"/>
                <a:ea typeface="華康中圓體"/>
              </a:rPr>
              <a:t>        </a:t>
            </a:r>
            <a:r>
              <a:rPr b="0" lang="zh-TW" sz="2000" spc="-1" strike="noStrike">
                <a:solidFill>
                  <a:srgbClr val="33cc33"/>
                </a:solidFill>
                <a:latin typeface="Arial"/>
                <a:ea typeface="華康中圓體"/>
              </a:rPr>
              <a:t>還給老闆抵債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思考問題之考古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341360"/>
            <a:ext cx="8496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你認為『交異性朋友』與『出外旅遊』有什麼關連？（中央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管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如果現在你身處於失火的大樓，你位於三樓，現在你要怎麼辦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（台大醫科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『橘子、西瓜、足球、網球』這四樣東西，你如何記憶下來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（輔大景觀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舉個例子證明你很有思考、邏輯能力。（中央資管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有兩個候選人互相攻擊。甲說：『乙候選人說的話是假的。』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說：『甲候選人剛才說的話是真的。』請問他們的話有沒有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題？解釋一下。（成大統計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哪種人害怕從低的地方跳下，而不怕從高的地方跳下？（逢甲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空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‧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「鳥」是一類事物，「歌星」是一類事物，你如何表達兩者之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</a:t>
            </a:r>
            <a:r>
              <a:rPr b="1" lang="zh-TW" sz="2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的關係？舉出「發展」的例子，來說明這名詞。 （交大管科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常識問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981000"/>
            <a:ext cx="8351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發問目的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華康中圓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教授們想瞭解即將成為高級知識份子的你，是不是具備了博學多聞的特點。許多教授認為，一個知識份子不應該只懂專業，而是要觸角廣泛，具備深厚的人文素養，所以會偏好通才型的學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答題秘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平時就要多看各類型書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考前兩週多看報紙有益身心健康發展的新聞、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度報導。比方說中國時報的開卷版、科學版、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華康中圓體"/>
              </a:rPr>
              <a:t>學副刊等，都是你惡補的最佳選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常識問題之考古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557360"/>
            <a:ext cx="8496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‧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『凱達格蘭大道』名稱的由來？（高醫醫學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‧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『三貂角』位於何處？（台中師院幼教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‧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『民主』與『自由』有何不同？（台大畜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‧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世界三大男高音是哪三位？（逢甲會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‧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說個笑話聽聽吧。（政大廣電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‧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世界三大男高音？（逢甲會計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‧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梅花於冬天盛開，此時動物正冬眠，梅花如何傳遞生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（清大電機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‧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為何遠山上的樹木看起來是藍色的？（成大工程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‧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感冒如果不吃藥，用什麼方法最快退燒？（成大工程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‧</a:t>
            </a:r>
            <a:r>
              <a:rPr b="1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請描述下墜球、上飄球的投法。（義守電子筆試題目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812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華康中圓體"/>
              </a:rPr>
              <a:t>面試問題的類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大部分的大學科系口試時的問題都幾乎是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Arial"/>
                <a:ea typeface="標楷體"/>
              </a:rPr>
              <a:t>隨機</a:t>
            </a:r>
            <a:r>
              <a:rPr b="0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的；亦或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Arial"/>
                <a:ea typeface="標楷體"/>
              </a:rPr>
              <a:t>固定題目</a:t>
            </a:r>
            <a:r>
              <a:rPr b="0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問學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口試的主要目的並不在測驗學生的學科能力，學生是否有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Arial"/>
                <a:ea typeface="標楷體"/>
              </a:rPr>
              <a:t>好的表達能力和思維邏輯</a:t>
            </a:r>
            <a:r>
              <a:rPr b="0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，反而口試中要尋找的重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心理準備：不要把口試當作是嚴格考試，而當作是個機會和長輩、老師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Arial"/>
                <a:ea typeface="標楷體"/>
              </a:rPr>
              <a:t>簡短展現自我</a:t>
            </a:r>
            <a:r>
              <a:rPr b="0" lang="zh-TW" sz="3200" spc="-1" strike="noStrike">
                <a:solidFill>
                  <a:srgbClr val="333399"/>
                </a:solidFill>
                <a:latin typeface="Arial"/>
                <a:ea typeface="標楷體"/>
              </a:rPr>
              <a:t>的機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052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827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華康中圓體"/>
              </a:rPr>
              <a:t>面試問題的類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事前的演練不嫌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面試前</a:t>
            </a:r>
            <a:r>
              <a:rPr b="0" lang="zh-TW" sz="28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做充分的準備、預習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表現對就讀該系的決心與定力，讓教授對你留下深刻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基本題要充分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（如自我介紹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生涯規劃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就讀動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不要有太多廢話，每句話應有目的，更應盡量展現相關的</a:t>
            </a:r>
            <a:r>
              <a:rPr b="0" lang="zh-TW" sz="28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就讀動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及</a:t>
            </a:r>
            <a:r>
              <a:rPr b="0" lang="zh-TW" sz="28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重要的優良事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或</a:t>
            </a:r>
            <a:r>
              <a:rPr b="0" lang="zh-TW" sz="28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相關經歷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最好能背一段</a:t>
            </a:r>
            <a:r>
              <a:rPr b="0" lang="zh-TW" sz="28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英文的自我介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80360" y="1125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560" y="274680"/>
            <a:ext cx="77342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面試的應答技巧</a:t>
            </a:r>
            <a:r>
              <a:rPr b="1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(</a:t>
            </a:r>
            <a:r>
              <a:rPr b="1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一</a:t>
            </a:r>
            <a:r>
              <a:rPr b="1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回話時先稍作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思考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3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秒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不會時可再問清題意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不要太多次﹚，或是想一下以以緩延思考時間。回答時可以先將教授的問題再重述一遍。例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關於…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我的看法是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要以「是非題」或「簡答題」回應，嘗試用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「申論題」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方式回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口試過程中，教授常常是根據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備審資料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內容，或是從學生回答的答案中起個頭，然後一路追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57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8880" y="274320"/>
            <a:ext cx="76579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面試的應答技巧</a:t>
            </a:r>
            <a:r>
              <a:rPr b="1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(</a:t>
            </a:r>
            <a:r>
              <a:rPr b="1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二</a:t>
            </a:r>
            <a:r>
              <a:rPr b="1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注意回答內容要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條理分明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﹙可用分段回答方式﹚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回答問題最好以列點陳述，會讓對方清楚明瞭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關於這個問題我有以下看法，首先…其次…最後…。第一點是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第二點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最後是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.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用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結語結束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回話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…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上是我的看法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若會緊張，眼光盡可能多放在看起來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溫和親切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評審教授身上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在言語間儘可能表現</a:t>
            </a:r>
            <a:r>
              <a:rPr b="0" lang="zh-TW" sz="3200" spc="-1" strike="noStrike" u="sng">
                <a:solidFill>
                  <a:srgbClr val="ff00ff"/>
                </a:solidFill>
                <a:uFillTx/>
                <a:latin typeface="標楷體"/>
                <a:ea typeface="標楷體"/>
              </a:rPr>
              <a:t>積極態度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236000" y="47628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面試必勝秘訣 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907920"/>
            <a:ext cx="84960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對於口試委員的說明，要仔細聆聽，並適時的點頭回應。每次作答都應耐心等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方問完，並停頓二、三秒，先思考一下，整理好思緒，再從容不迫地回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別忘了，臨場的反應及組織能力，才是對方最想測驗你的特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即使碰上了你有備而來的問題，也千萬別因感到「真爽！被我猜中」，就迫不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待地開口，甚至打斷對方的問題，那可就功虧一簣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如果有不懂的地方，可以請口試委員再次說明問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例如：「對不起，我不太了解老師您的意思，可以請您再說一次嗎？」、「您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意思是不是指…？」，自己先前沒聽懂問題，再確認後也許就能順利回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萬一口試時，對方問了個專業問題，而你卻只覺得「這名詞聽起來好耳熟…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這時最好的</a:t>
            </a: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EQ</a:t>
            </a: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反應是</a:t>
            </a: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先微笑地確認一下問題內容：「您的問題是要我說明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×××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嗎？」或者「這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問題我沒有特別注意，但是相關的……部分，我比較了解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萬一仍然不會，切忌開始亂掰（口試委員都是資深的前輩，你想你唬得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嗎？），最好回應：「很抱歉，關於這方面我一時想不出來完整的內容」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 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「很抱歉，關於這方面我不是很熟悉，我比較有心得的是相關的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×××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域……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面試必勝秘訣 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557360"/>
            <a:ext cx="8496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最難堪的場面，就是當口試委員語帶不屑地挑你毛病時。例如：「你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績這麼爛，還好意思來推甄？」這時怎麼辦？如果你氣毛了頂撞回去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或是嚇壞了低頭啜泣，可能就誤中對方「壓力面談」的故意設計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在這種刻意製造的壓力場景中，你的抗壓能耐是對方所要考出的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EQ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力。所以請先深吸一口氣，穩定軍心，然後自在地回答：「雖然我的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績不算太理想，但是我從社團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(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擔任幹部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)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經驗中學到了許多活動企劃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  </a:t>
            </a:r>
            <a:r>
              <a:rPr b="0" lang="zh-TW" sz="2000" spc="-1" strike="noStrike">
                <a:solidFill>
                  <a:srgbClr val="0000ff"/>
                </a:solidFill>
                <a:latin typeface="華康流隸體"/>
                <a:ea typeface="華康流隸體"/>
              </a:rPr>
              <a:t>團隊領導的能力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當口試委員反問你，有無什麼問題時，若無疑問，千萬別亂發問，以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弄巧成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面談結束後，向口試委員行禮致意，並說：「</a:t>
            </a:r>
            <a:r>
              <a:rPr b="0" lang="zh-TW" sz="20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謝謝老師的指導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」，然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輕輕將椅子靠上、門關上後離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10400" cy="6808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70581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華康娃娃體W7"/>
                <a:ea typeface="華康娃娃體W7"/>
              </a:rPr>
              <a:t>瞄準目標，</a:t>
            </a:r>
            <a:br>
              <a:rPr sz="4800"/>
            </a:br>
            <a:r>
              <a:rPr b="0" lang="zh-TW" sz="4800" spc="-1" strike="noStrike">
                <a:solidFill>
                  <a:srgbClr val="333399"/>
                </a:solidFill>
                <a:latin typeface="華康娃娃體W7"/>
                <a:ea typeface="華康娃娃體W7"/>
              </a:rPr>
              <a:t>    成功就在前方～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6764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行楷體W5"/>
                <a:ea typeface="華康行楷體W5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Copperplate Gothic Bold"/>
                <a:ea typeface="華康中圓體"/>
              </a:rPr>
              <a:t>面試五大類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1413000"/>
            <a:ext cx="7056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★</a:t>
            </a:r>
            <a:r>
              <a:rPr b="0" lang="zh-TW" sz="4000" spc="-1" strike="noStrike" u="sng">
                <a:solidFill>
                  <a:srgbClr val="009999"/>
                </a:solidFill>
                <a:uFillTx/>
                <a:latin typeface="華康中圓體"/>
                <a:ea typeface="華康中圓體"/>
              </a:rPr>
              <a:t>一般問題</a:t>
            </a:r>
            <a:r>
              <a:rPr b="0" lang="zh-TW" sz="4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(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個人經驗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.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價值觀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4000" spc="-1" strike="noStrike" u="sng">
                <a:solidFill>
                  <a:srgbClr val="009999"/>
                </a:solidFill>
                <a:uFillTx/>
                <a:latin typeface="華康中圓體"/>
                <a:ea typeface="華康中圓體"/>
                <a:hlinkClick r:id="rId3" action="ppaction://hlinksldjump"/>
              </a:rPr>
              <a:t>專業問題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(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科系先備知識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4000" spc="-1" strike="noStrike" u="sng">
                <a:solidFill>
                  <a:srgbClr val="009999"/>
                </a:solidFill>
                <a:uFillTx/>
                <a:latin typeface="華康中圓體"/>
                <a:ea typeface="華康中圓體"/>
                <a:hlinkClick r:id="rId4" action="ppaction://hlinksldjump"/>
              </a:rPr>
              <a:t>時事問題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(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社會觀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.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國際觀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4000" spc="-1" strike="noStrike" u="sng">
                <a:solidFill>
                  <a:srgbClr val="009999"/>
                </a:solidFill>
                <a:uFillTx/>
                <a:latin typeface="華康中圓體"/>
                <a:ea typeface="華康中圓體"/>
                <a:hlinkClick r:id="rId5" action="ppaction://hlinksldjump"/>
              </a:rPr>
              <a:t>思考問題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(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創造力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.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邏輯思考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.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批判力</a:t>
            </a:r>
            <a:r>
              <a:rPr b="1" lang="zh-TW" sz="2800" spc="-1" strike="noStrike">
                <a:solidFill>
                  <a:srgbClr val="ff0066"/>
                </a:solidFill>
                <a:latin typeface="華康皮皮體W5"/>
                <a:ea typeface="華康皮皮體W5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4000" spc="-1" strike="noStrike" u="sng">
                <a:solidFill>
                  <a:srgbClr val="009999"/>
                </a:solidFill>
                <a:uFillTx/>
                <a:latin typeface="華康中圓體"/>
                <a:ea typeface="華康中圓體"/>
                <a:hlinkClick r:id="rId6" action="ppaction://hlinksldjump"/>
              </a:rPr>
              <a:t>常識問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373720"/>
            <a:ext cx="518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Arial"/>
                <a:ea typeface="華康皮皮體W5"/>
              </a:rPr>
              <a:t>讓我們一起來見招拆招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Arial"/>
                <a:ea typeface="華康中圓體"/>
              </a:rPr>
              <a:t>一般問題（</a:t>
            </a:r>
            <a:r>
              <a:rPr b="0" lang="zh-TW" sz="4400" spc="-1" strike="noStrike">
                <a:solidFill>
                  <a:srgbClr val="0000ff"/>
                </a:solidFill>
                <a:latin typeface="Arial"/>
                <a:ea typeface="華康中圓體"/>
              </a:rPr>
              <a:t>1</a:t>
            </a:r>
            <a:r>
              <a:rPr b="0" lang="zh-TW" sz="4400" spc="-1" strike="noStrike">
                <a:solidFill>
                  <a:srgbClr val="0000ff"/>
                </a:solidFill>
                <a:latin typeface="Arial"/>
                <a:ea typeface="華康中圓體"/>
              </a:rPr>
              <a:t>）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- </a:t>
            </a:r>
            <a:r>
              <a:rPr b="0" lang="zh-TW" sz="4400" spc="-1" strike="noStrike">
                <a:solidFill>
                  <a:srgbClr val="0000ff"/>
                </a:solidFill>
                <a:latin typeface="華康墨字體"/>
                <a:ea typeface="華康墨字體"/>
              </a:rPr>
              <a:t>自我介紹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848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8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題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請簡單地自我介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8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發問目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教授們想深入瞭解你。由你的回答中可以判斷你的人格特質、興趣、思考能力、組織能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8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答題秘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1.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將自傳的內容言簡意賅地說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2.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要讓教授們對你留下深刻的印象，要注意自信的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態度，流利的表達，適度的音量，自然的微笑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適合就讀該系的人格特質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事先準備好自我介紹一分鐘、三分鐘、五分鐘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三種版本。</a:t>
            </a:r>
            <a:r>
              <a:rPr b="0" lang="zh-TW" sz="28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26920" y="1412640"/>
            <a:ext cx="749016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變化題型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說出你的三個優點（缺點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請用三個理由說明本系為什麼非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取你不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請用三個形容詞形容你自己等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談談你自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Arial"/>
                <a:ea typeface="華康中圓體"/>
              </a:rPr>
              <a:t>一般問題（</a:t>
            </a:r>
            <a:r>
              <a:rPr b="0" lang="zh-TW" sz="4400" spc="-1" strike="noStrike">
                <a:solidFill>
                  <a:srgbClr val="0000ff"/>
                </a:solidFill>
                <a:latin typeface="Arial"/>
                <a:ea typeface="華康中圓體"/>
              </a:rPr>
              <a:t>1</a:t>
            </a:r>
            <a:r>
              <a:rPr b="0" lang="zh-TW" sz="4400" spc="-1" strike="noStrike">
                <a:solidFill>
                  <a:srgbClr val="0000ff"/>
                </a:solidFill>
                <a:latin typeface="Arial"/>
                <a:ea typeface="華康中圓體"/>
              </a:rPr>
              <a:t>）</a:t>
            </a:r>
            <a:r>
              <a:rPr b="0" lang="zh-TW" sz="4400" spc="-1" strike="noStrike">
                <a:solidFill>
                  <a:srgbClr val="0000ff"/>
                </a:solidFill>
                <a:latin typeface="Arial"/>
                <a:ea typeface="華康中圓體"/>
              </a:rPr>
              <a:t>-</a:t>
            </a:r>
            <a:r>
              <a:rPr b="0" lang="zh-TW" sz="4400" spc="-1" strike="noStrike">
                <a:solidFill>
                  <a:srgbClr val="0000ff"/>
                </a:solidFill>
                <a:latin typeface="Arial"/>
                <a:ea typeface="華康中圓體"/>
              </a:rPr>
              <a:t>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一般問題（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2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）</a:t>
            </a:r>
            <a:r>
              <a:rPr b="0" lang="zh-TW" sz="4400" spc="-1" strike="noStrike">
                <a:solidFill>
                  <a:srgbClr val="0000ff"/>
                </a:solidFill>
                <a:latin typeface="華康墨字體"/>
                <a:ea typeface="華康墨字體"/>
              </a:rPr>
              <a:t>- </a:t>
            </a:r>
            <a:r>
              <a:rPr b="0" lang="zh-TW" sz="4400" spc="-1" strike="noStrike">
                <a:solidFill>
                  <a:srgbClr val="0000ff"/>
                </a:solidFill>
                <a:latin typeface="華康墨字體"/>
                <a:ea typeface="華康墨字體"/>
              </a:rPr>
              <a:t>備審內容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1185840"/>
            <a:ext cx="78487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題目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由繳交的自傳及讀書計畫表中提出問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發問目的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瞭解考生，評估考生是否具備適合念該系的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趣、能力、人格特質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答題秘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1.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絕對絕對要熟記自己撰寫的內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2.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在繳交自傳及讀書計畫前，一定要影印一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自己保留，對撰寫內容熟悉到倒背如流的地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徹底想一想，如果你是口試委員，你會由內文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問什麼問題來瞭解這個考生。自問自答一遍，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且反覆練習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一般問題（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3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） 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-</a:t>
            </a:r>
            <a:r>
              <a:rPr b="0" lang="zh-TW" sz="4400" spc="-1" strike="noStrike">
                <a:solidFill>
                  <a:srgbClr val="0000ff"/>
                </a:solidFill>
                <a:latin typeface="華康墨字體"/>
                <a:ea typeface="華康墨字體"/>
              </a:rPr>
              <a:t>英文自我介紹</a:t>
            </a:r>
            <a:r>
              <a:rPr b="0" lang="zh-TW" sz="4400" spc="-1" strike="noStrike">
                <a:solidFill>
                  <a:srgbClr val="0000ff"/>
                </a:solidFill>
                <a:latin typeface="華康中圓體"/>
                <a:ea typeface="華康中圓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185840"/>
            <a:ext cx="78487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題目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請用英文自我介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發問目的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瞭解考生的國際化程度以及基本外語能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★</a:t>
            </a:r>
            <a:r>
              <a:rPr b="0" lang="zh-TW" sz="2600" spc="-1" strike="noStrike" u="sng">
                <a:solidFill>
                  <a:srgbClr val="ff0066"/>
                </a:solidFill>
                <a:uFillTx/>
                <a:latin typeface="華康中圓體"/>
                <a:ea typeface="華康中圓體"/>
              </a:rPr>
              <a:t>答題秘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1.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平常一定要將英文學好（不只是很會考試，而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聽力、口語表達力都有一定水準），多聽聽英文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廣播節目，練聽力也練口語能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2.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若是英文基礎不夠好，可在口試前背下一篇簡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的英文的自我介紹（內容與自述相同，事先請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    </a:t>
            </a:r>
            <a:r>
              <a:rPr b="0" lang="zh-TW" sz="2600" spc="-1" strike="noStrike">
                <a:solidFill>
                  <a:srgbClr val="000000"/>
                </a:solidFill>
                <a:latin typeface="華康中圓體"/>
                <a:ea typeface="華康中圓體"/>
              </a:rPr>
              <a:t>的英文老師改過一次），臨陣磨鎗，不亮也光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6:21:01Z</dcterms:created>
  <dc:creator>admin</dc:creator>
  <dc:description/>
  <dc:language>en-US</dc:language>
  <cp:lastModifiedBy>BONNIE</cp:lastModifiedBy>
  <dcterms:modified xsi:type="dcterms:W3CDTF">2010-03-16T00:45:43Z</dcterms:modified>
  <cp:revision>72</cp:revision>
  <dc:subject/>
  <dc:title>「大學學系探索量表」 測驗解釋</dc:title>
</cp:coreProperties>
</file>